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4200" y="135684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16 Обрада резултата мерења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вање 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а вага; Мерни судови; Калибрација мерних судова; Израчунавање резултата у волуметријској нализи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Ксенија Вучић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п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2828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за тачно мерење одређене запремине испитиваног раствора или реакт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ане дуге цеви проширене у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у запремине од 1, 2, 5, 10, 20, 25, 50 и 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и пипете мањих запремина од 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ип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www.instrumentimb.rs/wp-content/uploads/2013/10/STERILNE-ZA-JEDNOKRATNU-UPOTREBU-SEROLO%C5%A0KE-PIPETE-300x300.jpg"/>
          <p:cNvPicPr/>
          <p:nvPr/>
        </p:nvPicPr>
        <p:blipFill>
          <a:blip r:embed="rId1"/>
          <a:stretch/>
        </p:blipFill>
        <p:spPr>
          <a:xfrm>
            <a:off x="108000" y="2276640"/>
            <a:ext cx="3792600" cy="379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www.marika.budzianowska.info/wp-content/uploads/2012/06/pipety-automatyczna.jpg"/>
          <p:cNvPicPr/>
          <p:nvPr/>
        </p:nvPicPr>
        <p:blipFill>
          <a:blip r:embed="rId2"/>
          <a:stretch/>
        </p:blipFill>
        <p:spPr>
          <a:xfrm>
            <a:off x="3995640" y="3213000"/>
            <a:ext cx="48420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ни балони (одмерни судови, нормални судо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за прављење раствора за титр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блаживање испитиваног раствора до одређене запрем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ни судови – боце са равним дном и дугим узаним грлом на коме је урезан прстенаст за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њење одмерних судова водом врши се помоћу шприц бо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мерним судовима означене су запремина и температура при којој је та запремина изме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upload.wikimedia.org/wikipedia/commons/thumb/0/0d/Volumetric_flasks.jpg/800px-Volumetric_flasks.jpg"/>
          <p:cNvPicPr/>
          <p:nvPr/>
        </p:nvPicPr>
        <p:blipFill>
          <a:blip r:embed="rId1"/>
          <a:stretch/>
        </p:blipFill>
        <p:spPr>
          <a:xfrm>
            <a:off x="1332000" y="1179360"/>
            <a:ext cx="697212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р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е градуисане цеви снабдевене на свом доњем делу славином која омогућава контролисано испуштање те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 течности у бирети представља широки менискус. Очитавање се врши на доњем делу мениск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3.bp.blogspot.com/-9b0WlM9oHP4/UVDrTklL92I/AAAAAAAAALc/5gpVncmUtGw/s1600/burette.jpg"/>
          <p:cNvPicPr/>
          <p:nvPr/>
        </p:nvPicPr>
        <p:blipFill>
          <a:blip r:embed="rId1"/>
          <a:stretch/>
        </p:blipFill>
        <p:spPr>
          <a:xfrm>
            <a:off x="1332000" y="4076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www.periodni.com/gallery/automatic_burette.png"/>
          <p:cNvPicPr/>
          <p:nvPr/>
        </p:nvPicPr>
        <p:blipFill>
          <a:blip r:embed="rId2"/>
          <a:stretch/>
        </p:blipFill>
        <p:spPr>
          <a:xfrm>
            <a:off x="5292720" y="4005360"/>
            <a:ext cx="16095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читавање запремине у бир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Sl II-10 b"/>
          <p:cNvPicPr/>
          <p:nvPr/>
        </p:nvPicPr>
        <p:blipFill>
          <a:blip r:embed="rId1"/>
          <a:stretch/>
        </p:blipFill>
        <p:spPr>
          <a:xfrm>
            <a:off x="4859280" y="2997360"/>
            <a:ext cx="1944720" cy="201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Sl II-10"/>
          <p:cNvPicPr/>
          <p:nvPr/>
        </p:nvPicPr>
        <p:blipFill>
          <a:blip r:embed="rId2"/>
          <a:stretch/>
        </p:blipFill>
        <p:spPr>
          <a:xfrm>
            <a:off x="1619280" y="3068640"/>
            <a:ext cx="2232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шћење волуметријских суд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4000" y="1773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воде за прање се у аналитичкој лабораторији користе следећа сред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а средства и прашкови за прање суд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 сумпорн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ни раствор калијум-хидрокс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раствор калијум-хидроксида који садржи калијум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манга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брација волуметријских судов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штене толеранције за неке волуметријске судове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205000"/>
          <a:ext cx="8207280" cy="4160880"/>
        </p:xfrm>
        <a:graphic>
          <a:graphicData uri="http://schemas.openxmlformats.org/drawingml/2006/table">
            <a:tbl>
              <a:tblPr/>
              <a:tblGrid>
                <a:gridCol w="1368360"/>
                <a:gridCol w="1366920"/>
                <a:gridCol w="1368360"/>
                <a:gridCol w="1368360"/>
                <a:gridCol w="1366920"/>
                <a:gridCol w="136836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мина суда  </a:t>
                      </a:r>
                      <a:r>
                        <a:rPr b="1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а грешке (±</a:t>
                      </a:r>
                      <a:r>
                        <a:rPr b="1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мина суда  </a:t>
                      </a:r>
                      <a:r>
                        <a:rPr b="1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а грешке (±</a:t>
                      </a:r>
                      <a:r>
                        <a:rPr b="1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мина суда  </a:t>
                      </a:r>
                      <a:r>
                        <a:rPr b="1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а грешке (±</a:t>
                      </a:r>
                      <a:r>
                        <a:rPr b="1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мерне тиквиц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носне пипе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ре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оване вредности за масу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9640" y="1519200"/>
          <a:ext cx="7993080" cy="5338800"/>
        </p:xfrm>
        <a:graphic>
          <a:graphicData uri="http://schemas.openxmlformats.org/drawingml/2006/table">
            <a:tbl>
              <a:tblPr/>
              <a:tblGrid>
                <a:gridCol w="1998720"/>
                <a:gridCol w="1998720"/>
                <a:gridCol w="1996920"/>
                <a:gridCol w="19987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а 1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 </a:t>
                      </a: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е мерена 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уу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здуху, кориговано за промену запремине стаклене посу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кано стак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гех стак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1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7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89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7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86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7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86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7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7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8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7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7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8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7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7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8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6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6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77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6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7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,996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6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73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6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7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6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величине и мерне једи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љива својства природних појава су она својства која се могу квантитативно изразити називају се физичке велич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а физичка величина се изражава одређеном мерном јединиц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а ва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 мерење масе представља једну од основних операција у квантитативној ана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при припремању раствора тачно познате концентрације, при одређивању масе жареног талога у лончићу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 ваге омогућавају мерење различитих материјала чија маса износи од 100-200 g са тачношћу ± 0,0001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ваге заштитити од прашине, струјања ваздуха, механичких потреса, нагле промене температур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ју се у посебним простор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39640" y="1339920"/>
          <a:ext cx="8425080" cy="4278240"/>
        </p:xfrm>
        <a:graphic>
          <a:graphicData uri="http://schemas.openxmlformats.org/drawingml/2006/table">
            <a:tbl>
              <a:tblPr/>
              <a:tblGrid>
                <a:gridCol w="2106720"/>
                <a:gridCol w="1709640"/>
                <a:gridCol w="2502000"/>
                <a:gridCol w="210672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физичке велич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бол велич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физичке велич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бол велич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ч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преч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а ат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sr-Latn-R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асна дуж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ативна атомска ма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sr-Latn-R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м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тивна молекулска ма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sr-Latn-R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арна ма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еквен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з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тиса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ерг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ени уде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електрис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ена концентр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ина супстанц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инска концентр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динамичка темп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зијусова темп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пл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нос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плотни капаци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фични топлотни капаци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не јединице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е SI-јединиц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2421000"/>
          <a:ext cx="8569080" cy="3546360"/>
        </p:xfrm>
        <a:graphic>
          <a:graphicData uri="http://schemas.openxmlformats.org/drawingml/2006/table">
            <a:tbl>
              <a:tblPr/>
              <a:tblGrid>
                <a:gridCol w="2141280"/>
                <a:gridCol w="2143440"/>
                <a:gridCol w="2141280"/>
                <a:gridCol w="214308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ка 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б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б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ж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логр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ун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ична стру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п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динамичка темп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лв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ина супстанц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зитет светл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не јединице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ведене SI-јединице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4000" y="3068640"/>
          <a:ext cx="8569080" cy="2433600"/>
        </p:xfrm>
        <a:graphic>
          <a:graphicData uri="http://schemas.openxmlformats.org/drawingml/2006/table">
            <a:tbl>
              <a:tblPr/>
              <a:tblGrid>
                <a:gridCol w="2141280"/>
                <a:gridCol w="2143080"/>
                <a:gridCol w="2141640"/>
                <a:gridCol w="21430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ка вели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јединиц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бол јединиц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ниција јединиц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ерг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џу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·m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s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еквен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р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електрис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·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тис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к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·m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s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њут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·m·s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-префик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989000"/>
          <a:ext cx="8207280" cy="4035600"/>
        </p:xfrm>
        <a:graphic>
          <a:graphicData uri="http://schemas.openxmlformats.org/drawingml/2006/table">
            <a:tbl>
              <a:tblPr/>
              <a:tblGrid>
                <a:gridCol w="1320840"/>
                <a:gridCol w="1044360"/>
                <a:gridCol w="1460520"/>
                <a:gridCol w="1460520"/>
                <a:gridCol w="1460520"/>
                <a:gridCol w="14605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д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фик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бо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д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фик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бо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1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0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ц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1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0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3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к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м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 дозвољене јединице изван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2421000"/>
          <a:ext cx="8569080" cy="2519280"/>
        </p:xfrm>
        <a:graphic>
          <a:graphicData uri="http://schemas.openxmlformats.org/drawingml/2006/table">
            <a:tbl>
              <a:tblPr/>
              <a:tblGrid>
                <a:gridCol w="2141280"/>
                <a:gridCol w="2143080"/>
                <a:gridCol w="2141640"/>
                <a:gridCol w="214308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ка 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једин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бол једин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ниција јединиц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ћу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једин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м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,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L = 10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3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фицирана атомска јединица ма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u = 1,6605·10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7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тис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bar = 10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ерг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нвол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eV = 1,602·10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зијусова темп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 целзију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= 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не вредности неких важнијих физичких констан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11280" y="2205000"/>
          <a:ext cx="7848360" cy="3708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ка вел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б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д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зина светлости у вакуу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·10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·s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електрисање прот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·10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кова конста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·10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J·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огадрова конста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Latn-R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23·10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ol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а елек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sr-Latn-R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·10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1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а прот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sr-Latn-R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·10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7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а неу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sr-Latn-R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·10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7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адејева конста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65·10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·mol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ерзална гасна конста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14 J·K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 mol</a:t>
                      </a:r>
                      <a:r>
                        <a:rPr b="0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за употребу ва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0560" y="177300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а се налази у посебној просторији која има константну температуру у којој нема испаравања и вла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гови се не смеју узимати руком већ само пинцетом која се не сме употребљавати за друге сврх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се никада не ставља директно на плитице ваге, већ се за мерење користе посуде за мерење (вегеглас, чаша или евентуално сахатно стакло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мерењу се чврста или течна супстанца не додаје или одузима док посуда за мерења стоји на плит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агу се не смеју стављати врући предме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а се никада не сме преоптерет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реме мерења вратанца од ормарића ваге морају бити затв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агу се смеју стављати или са плитице скидати тегови само када је вага укоч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скопне супстанце или течности се мере искључиво у судовима са брушеним запушач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у никада не остављати у откоченом положа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ка мер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а са једнаким крацима (класична аналитичка вага без пригушивањ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а на аналитичкој ваги (мерења до 200 g са тачношћу ±0,1 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ttps://jelenakalderon.files.wordpress.com/2016/03/masa.jpg?w=593"/>
          <p:cNvPicPr/>
          <p:nvPr/>
        </p:nvPicPr>
        <p:blipFill>
          <a:blip r:embed="rId1"/>
          <a:stretch/>
        </p:blipFill>
        <p:spPr>
          <a:xfrm>
            <a:off x="755640" y="2637000"/>
            <a:ext cx="2438280" cy="1876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sinergica-soluzioni.com/2011/images/m-pact2.jpeg"/>
          <p:cNvPicPr/>
          <p:nvPr/>
        </p:nvPicPr>
        <p:blipFill>
          <a:blip r:embed="rId2"/>
          <a:stretch/>
        </p:blipFill>
        <p:spPr>
          <a:xfrm>
            <a:off x="5003640" y="2205000"/>
            <a:ext cx="26146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осцил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нулте тач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осетљивости ва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е предм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е методом диферен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ага са неједнаким крацима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tler-ова ва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s://upload.wikimedia.org/wikipedia/commons/thumb/8/83/LeverPrincleple.svg/500px-LeverPrincleple.svg.png"/>
          <p:cNvPicPr/>
          <p:nvPr/>
        </p:nvPicPr>
        <p:blipFill>
          <a:blip r:embed="rId1"/>
          <a:stretch/>
        </p:blipFill>
        <p:spPr>
          <a:xfrm>
            <a:off x="324000" y="2637000"/>
            <a:ext cx="3840120" cy="230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Tibetan scale with one pan.jpg"/>
          <p:cNvPicPr/>
          <p:nvPr/>
        </p:nvPicPr>
        <p:blipFill>
          <a:blip r:embed="rId2"/>
          <a:stretch/>
        </p:blipFill>
        <p:spPr>
          <a:xfrm>
            <a:off x="4572000" y="364500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ове ваге примењена је метода мерења супститу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и који се мере и тегови се налазе на истој по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 предмета замењује једнаку масу тегова који се скидају са полуге да вага заузме равнотежни положај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а је потпуно затворена, а за мерење је доступан само тас за стављање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ни суд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ерење запремине у квантитативној анализи се употребљава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пете (трбушаста и одмер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ни суд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р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енз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Ksenija</cp:lastModifiedBy>
  <dcterms:modified xsi:type="dcterms:W3CDTF">2019-08-03T18:59:27Z</dcterms:modified>
  <cp:revision>192</cp:revision>
  <dc:subject/>
  <dc:title>Slide 1</dc:title>
</cp:coreProperties>
</file>